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25.gif" ContentType="image/gif"/>
  <Override PartName="/ppt/media/image19.wmf" ContentType="image/x-wmf"/>
  <Override PartName="/ppt/media/image17.wmf" ContentType="image/x-wmf"/>
  <Override PartName="/ppt/media/image29.gif" ContentType="image/gif"/>
  <Override PartName="/ppt/media/image8.wmf" ContentType="image/x-wmf"/>
  <Override PartName="/ppt/media/image13.wmf" ContentType="image/x-wmf"/>
  <Override PartName="/ppt/media/image5.png" ContentType="image/png"/>
  <Override PartName="/ppt/media/image10.wmf" ContentType="image/x-wmf"/>
  <Override PartName="/ppt/media/image12.gif" ContentType="image/gif"/>
  <Override PartName="/ppt/media/image30.gif" ContentType="image/gif"/>
  <Override PartName="/ppt/media/image11.wmf" ContentType="image/x-wmf"/>
  <Override PartName="/ppt/media/image32.gif" ContentType="image/gif"/>
  <Override PartName="/ppt/media/image18.wmf" ContentType="image/x-wmf"/>
  <Override PartName="/ppt/media/image20.wmf" ContentType="image/x-wmf"/>
  <Override PartName="/ppt/media/image7.wmf" ContentType="image/x-wmf"/>
  <Override PartName="/ppt/media/image33.gif" ContentType="image/gif"/>
  <Override PartName="/ppt/media/image9.wmf" ContentType="image/x-wmf"/>
  <Override PartName="/ppt/media/image35.gif" ContentType="image/gif"/>
  <Override PartName="/ppt/media/image34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6.gif" ContentType="image/gif"/>
  <Override PartName="/ppt/media/image2.wmf" ContentType="image/x-wmf"/>
  <Override PartName="/ppt/media/image23.jpeg" ContentType="image/jpeg"/>
  <Override PartName="/ppt/media/image14.wmf" ContentType="image/x-wmf"/>
  <Override PartName="/ppt/media/image31.png" ContentType="image/png"/>
  <Override PartName="/ppt/media/image1.png" ContentType="image/png"/>
  <Override PartName="/ppt/media/image15.wmf" ContentType="image/x-wmf"/>
  <Override PartName="/ppt/media/image16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58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2D31F7-F966-4600-83B9-73DBE30C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4FD53F-93C1-47C3-B0C2-0C2CF124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466390-CE1C-40F0-B340-2C3FE484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DA8E03-5B40-4FC3-BCA3-2CB0DE6C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2AE2CE-BB34-4436-B927-5298C721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EE49BF-93BB-424A-9DCE-EF876272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7E8FBD-D88A-45C4-A92C-729F348C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A0A64A-5DC2-4960-B215-4E5F6D22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D1B4C8-DD0F-47AF-BB18-E2230A30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71771A-81CB-42AE-8721-2B7ECDEA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BF978E-E0F1-45A0-9145-7F9DD0126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22D557-B563-4CC8-84BB-2DFA1EC79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4640" y="152280"/>
            <a:ext cx="0" cy="152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9960"/>
            <a:ext cx="21337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9960"/>
            <a:ext cx="28958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" name="" descr=""/>
          <p:cNvPicPr/>
          <p:nvPr/>
        </p:nvPicPr>
        <p:blipFill>
          <a:blip r:embed="rId2"/>
          <a:stretch/>
        </p:blipFill>
        <p:spPr>
          <a:xfrm>
            <a:off x="304920" y="5867280"/>
            <a:ext cx="2476440" cy="760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4280" y="464760"/>
            <a:ext cx="678168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Georgia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3"/>
          </p:nvPr>
        </p:nvSpPr>
        <p:spPr>
          <a:xfrm>
            <a:off x="456840" y="6249960"/>
            <a:ext cx="21337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4"/>
          </p:nvPr>
        </p:nvSpPr>
        <p:spPr>
          <a:xfrm>
            <a:off x="3124080" y="6249960"/>
            <a:ext cx="28958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7491240" y="2992320"/>
            <a:ext cx="1339560" cy="2187360"/>
            <a:chOff x="7491240" y="2992320"/>
            <a:chExt cx="1339560" cy="2187360"/>
          </a:xfrm>
        </p:grpSpPr>
        <p:sp>
          <p:nvSpPr>
            <p:cNvPr id="79" name=""/>
            <p:cNvSpPr/>
            <p:nvPr/>
          </p:nvSpPr>
          <p:spPr>
            <a:xfrm>
              <a:off x="7491240" y="2992320"/>
              <a:ext cx="20160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75640" y="2992320"/>
              <a:ext cx="20160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060040" y="2992320"/>
              <a:ext cx="20160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91240" y="3276360"/>
              <a:ext cx="20160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775640" y="3276360"/>
              <a:ext cx="20160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060040" y="3276360"/>
              <a:ext cx="20160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344440" y="3276360"/>
              <a:ext cx="201600" cy="201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491240" y="3560040"/>
              <a:ext cx="20160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775640" y="3560040"/>
              <a:ext cx="20160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060040" y="3560040"/>
              <a:ext cx="201600" cy="201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44440" y="3560040"/>
              <a:ext cx="201600" cy="201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629200" y="3560040"/>
              <a:ext cx="201600" cy="201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91240" y="3842640"/>
              <a:ext cx="201600" cy="2026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775640" y="3842640"/>
              <a:ext cx="201600" cy="2026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60040" y="3842640"/>
              <a:ext cx="201600" cy="2026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44440" y="3842640"/>
              <a:ext cx="201600" cy="2026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91240" y="412632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775640" y="412632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60040" y="412632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344440" y="412632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629200" y="4126320"/>
              <a:ext cx="201600" cy="2030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91240" y="4410720"/>
              <a:ext cx="201600" cy="201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75640" y="4410720"/>
              <a:ext cx="201600" cy="201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60040" y="4410720"/>
              <a:ext cx="201600" cy="201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44440" y="4410720"/>
              <a:ext cx="201600" cy="2012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491240" y="4694400"/>
              <a:ext cx="201600" cy="201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75640" y="4694400"/>
              <a:ext cx="201600" cy="201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60040" y="4694400"/>
              <a:ext cx="201600" cy="2012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44440" y="4694400"/>
              <a:ext cx="201600" cy="2012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775640" y="4978440"/>
              <a:ext cx="201600" cy="2012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44440" y="4978440"/>
              <a:ext cx="201600" cy="2012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04920" y="2820960"/>
            <a:ext cx="82310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7200" y="5956200"/>
            <a:ext cx="2476440" cy="758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172200" y="5943600"/>
            <a:ext cx="2565360" cy="6476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Georgia"/>
              </a:rPr>
              <a:t>Click to edit the title text format</a:t>
            </a: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E8BE-F463-4BD5-926B-58A81A7D0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2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2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4280" y="464760"/>
            <a:ext cx="678168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Georgia"/>
              </a:rPr>
              <a:t>Thoughts Worth  Pondering</a:t>
            </a:r>
            <a:endParaRPr b="1" lang="en-US" sz="4800" spc="-1" strike="noStrike">
              <a:solidFill>
                <a:srgbClr val="330066"/>
              </a:solidFill>
              <a:latin typeface="Georgia"/>
            </a:endParaRPr>
          </a:p>
        </p:txBody>
      </p:sp>
    </p:spTree>
  </p:cSld>
  <p:transition spd="slow" advTm="4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ategy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t pays to plan ahead.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Georgia"/>
              </a:rPr>
              <a:t>It wasn’t raining when Noah built the ark!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9000"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ystems &amp; Processes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Make sure that incentive compensation is linked to performance over which the beneficiaries have control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5000">
    <p:random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228600" y="5943600"/>
            <a:ext cx="2287440" cy="701640"/>
          </a:xfrm>
          <a:prstGeom prst="rect">
            <a:avLst/>
          </a:prstGeom>
          <a:ln w="0">
            <a:noFill/>
          </a:ln>
        </p:spPr>
      </p:pic>
      <p:grpSp>
        <p:nvGrpSpPr>
          <p:cNvPr id="434" name=""/>
          <p:cNvGrpSpPr/>
          <p:nvPr/>
        </p:nvGrpSpPr>
        <p:grpSpPr>
          <a:xfrm>
            <a:off x="5334120" y="2743200"/>
            <a:ext cx="3520800" cy="3623760"/>
            <a:chOff x="5334120" y="2743200"/>
            <a:chExt cx="3520800" cy="3623760"/>
          </a:xfrm>
        </p:grpSpPr>
        <p:pic>
          <p:nvPicPr>
            <p:cNvPr id="435" name="" descr=""/>
            <p:cNvPicPr/>
            <p:nvPr/>
          </p:nvPicPr>
          <p:blipFill>
            <a:blip r:embed="rId2"/>
            <a:stretch/>
          </p:blipFill>
          <p:spPr>
            <a:xfrm>
              <a:off x="5943600" y="3777480"/>
              <a:ext cx="2379600" cy="25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5334120" y="2743200"/>
              <a:ext cx="3520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0042e"/>
                  </a:solidFill>
                  <a:latin typeface="Georgia"/>
                </a:rPr>
                <a:t>SYSTEMS &amp; PROCESSES</a:t>
              </a:r>
              <a:r>
                <a:rPr b="0" lang="en-US" sz="1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eorgia"/>
                </a:rPr>
                <a:t>can be good chemistry for profit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4267080" y="838080"/>
            <a:ext cx="43419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Let Cornerstone improve the chemistry of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042e"/>
                </a:solidFill>
                <a:latin typeface="Georgia"/>
              </a:rPr>
              <a:t>SYSTEMS &amp;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random/>
  </p:transition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396 -0.14758 L -0.34236 -0.09923 C -0.41788 -0.07749 -0.52344 -0.11982 -0.53177 -0.17696 L -0.55243 -0.30418 E">
                                      <p:cBhvr>
                                        <p:cTn id="794" dur="5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8" name=""/>
          <p:cNvGraphicFramePr/>
          <p:nvPr/>
        </p:nvGraphicFramePr>
        <p:xfrm>
          <a:off x="682560" y="378000"/>
          <a:ext cx="8064720" cy="62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378000"/>
                    <a:ext cx="806472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0" name=""/>
          <p:cNvGraphicFramePr/>
          <p:nvPr/>
        </p:nvGraphicFramePr>
        <p:xfrm>
          <a:off x="1952640" y="1397160"/>
          <a:ext cx="524196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2640" y="1397160"/>
                    <a:ext cx="524196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457200" y="608040"/>
            <a:ext cx="579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Cornerstone/RAN ONE Business Developme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Financ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uper achieving service companies are imbued with the belief that profits come from providing genuine value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7000">
    <p:random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Financ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677960" y="1677600"/>
            <a:ext cx="403704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ash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blood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lnSpc>
                <a:spcPct val="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lood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life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328840" cy="20415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6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1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Financ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0" y="1980720"/>
            <a:ext cx="4037040" cy="14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You cannot cut your way to prosperity!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 flipH="1">
            <a:off x="1295280" y="4419720"/>
            <a:ext cx="905040" cy="9032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52 -0.09931 L 0.23385 -0.16598 E">
                                      <p:cBhvr>
                                        <p:cTn id="827" dur="2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Financ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best businesses manage debt wisely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4000">
    <p:random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Financ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403848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anage the pennies and the dollars will take care of themselves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5132520" y="1600200"/>
            <a:ext cx="2516040" cy="38098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228600" y="5943600"/>
            <a:ext cx="2287440" cy="70164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534960" y="4191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rnerstone  will help you understand what </a:t>
            </a:r>
            <a:r>
              <a:rPr b="0" lang="en-US" sz="3600" spc="-1" strike="noStrike">
                <a:solidFill>
                  <a:srgbClr val="e0042e"/>
                </a:solidFill>
                <a:latin typeface="Georgia"/>
              </a:rPr>
              <a:t>FINANCE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is all ab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2895480" cy="21528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path" presetID="4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22623E-006 L 0.17084 -4.22623E-006 C 0.24723 -4.22623E-006 0.34167 -0.09183 0.34167 -0.16655 L 0.34167 -0.3331 E">
                                      <p:cBhvr>
                                        <p:cTn id="833" dur="2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Financ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When in doubt, remember cash is king.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3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ategy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t’s not the mountain that we conquer, but ourselve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r Edmund Hillary, First to Climb Mt. Everes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5000">
    <p:random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Financ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Provide customers with awesome service and the money will follow.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5000">
    <p:random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Financ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eorgia"/>
              </a:rPr>
              <a:t>The ultimate purpose of a business is to build equity value.</a:t>
            </a:r>
            <a:endParaRPr b="0" lang="en-US" sz="3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6000">
    <p:random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Financ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Good financial records can translate into a higher multiple when it comes time to sell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7000">
    <p:random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228600" y="5943600"/>
            <a:ext cx="2287440" cy="70164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5486400" y="3963960"/>
            <a:ext cx="2743200" cy="19620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1219320" y="1371600"/>
            <a:ext cx="4876560" cy="23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ood planning means you don’t have to break your bank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Let Cornerstone help you with your </a:t>
            </a:r>
            <a:r>
              <a:rPr b="0" lang="en-US" sz="3600" spc="-1" strike="noStrike">
                <a:solidFill>
                  <a:srgbClr val="e0042e"/>
                </a:solidFill>
                <a:latin typeface="Georgia"/>
              </a:rPr>
              <a:t>FINANCE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l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random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0" name=""/>
          <p:cNvGraphicFramePr/>
          <p:nvPr/>
        </p:nvGraphicFramePr>
        <p:xfrm>
          <a:off x="682560" y="378000"/>
          <a:ext cx="8064720" cy="62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378000"/>
                    <a:ext cx="806472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1952640" y="1397160"/>
          <a:ext cx="524196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2640" y="1397160"/>
                    <a:ext cx="524196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"/>
          <p:cNvSpPr/>
          <p:nvPr/>
        </p:nvSpPr>
        <p:spPr>
          <a:xfrm>
            <a:off x="457200" y="608040"/>
            <a:ext cx="579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Cornerstone/RAN ONE Business Developme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random/>
  </p:transition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3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3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Key Performance Indicators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eorgia"/>
              </a:rPr>
              <a:t>What gets measured, gets done.</a:t>
            </a:r>
            <a:endParaRPr b="0" lang="en-US" sz="3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2000">
    <p:random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6095880" y="608040"/>
            <a:ext cx="2286000" cy="70308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457200" y="1600200"/>
            <a:ext cx="7924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rnerstone can increase the value of your business by showing you how to measure and moni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0042e"/>
                </a:solidFill>
                <a:latin typeface="Georgia"/>
              </a:rPr>
              <a:t>KEY PERFORMANCE INDIC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608040" y="4037040"/>
            <a:ext cx="2212920" cy="221292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random/>
  </p:transition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01249E-006 L 0.57448 -0.0007 E">
                                      <p:cBhvr>
                                        <p:cTn id="870" dur="3000" fill="hold"/>
                                        <p:tgtEl>
                                          <p:spTgt spid="4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ategy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You miss 100 percent of the shots you never take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ayne Gretzk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7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ategy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Never retreat in the face of difficultie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dvance as conditions permit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f conditions don’t permit, create those condition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10000"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ategy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adership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determines the direction of a compan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Organizatio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determines the potential of a compan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Tea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determines the success of a company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15000"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ategy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e future belongs to people who see possibilities </a:t>
            </a:r>
            <a:r>
              <a:rPr b="0" i="1" lang="en-US" sz="3000" spc="-1" strike="noStrike">
                <a:solidFill>
                  <a:srgbClr val="000000"/>
                </a:solidFill>
                <a:latin typeface="Georgia"/>
              </a:rPr>
              <a:t>before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they become obvious.</a:t>
            </a: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6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5031000" cy="15415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 flipH="1">
            <a:off x="1677600" y="2362320"/>
            <a:ext cx="2492280" cy="24843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648320" y="2438280"/>
            <a:ext cx="32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rnerstone can lead you through a disciplined process to define your </a:t>
            </a:r>
            <a:r>
              <a:rPr b="0" lang="en-US" sz="3600" spc="-1" strike="noStrike">
                <a:solidFill>
                  <a:srgbClr val="e0042e"/>
                </a:solidFill>
                <a:latin typeface="Georgia"/>
              </a:rPr>
              <a:t>STRATE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random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ategy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Why not go out on a limb?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Isn’t that where the fruit is?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10000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9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ategy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Problems are those things we see when we take our eyes off the goal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7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ategy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A rut is a grave with both ends knocked out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682560" y="378000"/>
          <a:ext cx="8064720" cy="62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378000"/>
                    <a:ext cx="806472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940040" y="1397160"/>
          <a:ext cx="526392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0040" y="1397160"/>
                    <a:ext cx="526392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457200" y="608040"/>
            <a:ext cx="579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Cornerstone/RAN ONE Business Developme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ategy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We cannot become what we need to be by remaining what we are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6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ategy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We know what happens to people who stay in the middle of the road; they get run over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7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5031000" cy="15415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523880" y="2514600"/>
            <a:ext cx="2225880" cy="23036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037040" y="2362320"/>
            <a:ext cx="35830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trategy allows you to capture  opportunities.  Cornerstone can help you plan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0042e"/>
                </a:solidFill>
                <a:latin typeface="Georgia"/>
              </a:rPr>
              <a:t>STRATE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ategy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ommunication is the most important source of personal power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5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ategy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81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9144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Jack Welch’s Six Rul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914400" indent="-34452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ace reality as it is, not as it was or as you wish it to be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914400" indent="-344520">
              <a:lnSpc>
                <a:spcPct val="2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e candid with everyone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914400" indent="-344520">
              <a:lnSpc>
                <a:spcPct val="2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Don’t manage, lead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914400" indent="-344520">
              <a:lnSpc>
                <a:spcPct val="2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hange before you have to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914400" indent="-344520">
              <a:lnSpc>
                <a:spcPct val="2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If you don’t have a competitive advantage, don’t compete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914400" indent="-344520">
              <a:lnSpc>
                <a:spcPct val="2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ntrol your own destiny, or someone else will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33000"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9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indefinite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indefinite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9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indefinite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indefinite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9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indefinite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900" fill="hold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ategy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022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achieve real empowerment and improve morale, follow three basic step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2240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22400" indent="-571680">
              <a:lnSpc>
                <a:spcPct val="11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Find out what people are thinking, what they believe the problems in the company are.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1022400" indent="-571680">
              <a:lnSpc>
                <a:spcPct val="11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Let them design the solutions.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1022400" indent="-571680">
              <a:lnSpc>
                <a:spcPct val="11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Get out of the way and let them put their solutions into practice.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20000"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9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ategy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e greatest mistake we make is living in constant fear that we will make one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4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5334120" y="1905120"/>
            <a:ext cx="3274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0042e"/>
                </a:solidFill>
                <a:latin typeface="Georgia"/>
              </a:rPr>
              <a:t>STRATEGY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allows you to outsmart the competition.  Let Cornerstone show you ho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28600" y="1333440"/>
            <a:ext cx="4951440" cy="3888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6629400" y="4927680"/>
            <a:ext cx="1727280" cy="16891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682560" y="378000"/>
          <a:ext cx="8064720" cy="62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378000"/>
                    <a:ext cx="806472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1952640" y="1397160"/>
          <a:ext cx="524196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2640" y="1397160"/>
                    <a:ext cx="524196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457200" y="608040"/>
            <a:ext cx="579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Cornerstone/RAN ONE Business Developme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7000"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uc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You either organize or you agonize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r. Ed Meyers, Pastor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First Baptist Church, Farmingto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11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Vision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eorgia"/>
              </a:rPr>
              <a:t>Vision adds value to everything.</a:t>
            </a:r>
            <a:endParaRPr b="0" lang="en-US" sz="3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ohn Maxwell, Chief Executive INJO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7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uc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eorgia"/>
              </a:rPr>
              <a:t>You are either working </a:t>
            </a:r>
            <a:r>
              <a:rPr b="1" i="1" lang="en-US" sz="3800" spc="-1" strike="noStrike">
                <a:solidFill>
                  <a:srgbClr val="00ff00"/>
                </a:solidFill>
                <a:latin typeface="Georgia"/>
              </a:rPr>
              <a:t>ON</a:t>
            </a:r>
            <a:r>
              <a:rPr b="1" i="1" lang="en-US" sz="3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Georgia"/>
              </a:rPr>
              <a:t>or </a:t>
            </a:r>
            <a:r>
              <a:rPr b="1" i="1" lang="en-US" sz="3800" spc="-1" strike="noStrike">
                <a:solidFill>
                  <a:srgbClr val="e0042e"/>
                </a:solidFill>
                <a:latin typeface="Georgia"/>
              </a:rPr>
              <a:t>IN</a:t>
            </a:r>
            <a:r>
              <a:rPr b="0" lang="en-US" sz="3800" spc="-1" strike="noStrike">
                <a:solidFill>
                  <a:srgbClr val="000000"/>
                </a:solidFill>
                <a:latin typeface="Georgia"/>
              </a:rPr>
              <a:t> your business.</a:t>
            </a:r>
            <a:endParaRPr b="0" lang="en-US" sz="3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7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uc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ell me, and I </a:t>
            </a:r>
            <a:r>
              <a:rPr b="0" i="1" lang="en-US" sz="3000" spc="-1" strike="noStrike">
                <a:solidFill>
                  <a:srgbClr val="000000"/>
                </a:solidFill>
                <a:latin typeface="Georgia"/>
              </a:rPr>
              <a:t>will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forget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how me, I </a:t>
            </a:r>
            <a:r>
              <a:rPr b="0" i="1" lang="en-US" sz="3000" spc="-1" strike="noStrike">
                <a:solidFill>
                  <a:srgbClr val="000000"/>
                </a:solidFill>
                <a:latin typeface="Georgia"/>
              </a:rPr>
              <a:t>may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remember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Involve me and I </a:t>
            </a:r>
            <a:r>
              <a:rPr b="0" i="1" lang="en-US" sz="3000" spc="-1" strike="noStrike">
                <a:solidFill>
                  <a:srgbClr val="000000"/>
                </a:solidFill>
                <a:latin typeface="Georgia"/>
              </a:rPr>
              <a:t>will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understand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98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ao Tzu, 500 B.C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19000"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9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9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9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uc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Is your business controlling you or are you controlling your business?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5000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uc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What we can measure, we can manage.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6000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990720" y="5562720"/>
            <a:ext cx="2363760" cy="7239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685800" y="1219320"/>
            <a:ext cx="39625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Good</a:t>
            </a:r>
            <a:r>
              <a:rPr b="0" lang="en-US" sz="3600" spc="-1" strike="noStrike">
                <a:solidFill>
                  <a:srgbClr val="e0042e"/>
                </a:solidFill>
                <a:latin typeface="Georgia"/>
              </a:rPr>
              <a:t> Structure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is the key to allowing you to work </a:t>
            </a:r>
            <a:r>
              <a:rPr b="1" i="1" lang="en-US" sz="1800" spc="-1" strike="noStrike">
                <a:solidFill>
                  <a:srgbClr val="00ff00"/>
                </a:solidFill>
                <a:latin typeface="Georgia"/>
              </a:rPr>
              <a:t>ON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not just </a:t>
            </a:r>
            <a:r>
              <a:rPr b="1" i="1" lang="en-US" sz="1800" spc="-1" strike="noStrike">
                <a:solidFill>
                  <a:srgbClr val="e0042e"/>
                </a:solidFill>
                <a:latin typeface="Georgia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your busi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Let Cornerstone be your partner in bringing structure to your busi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 flipH="1">
            <a:off x="5029200" y="2209680"/>
            <a:ext cx="2517840" cy="276228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random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682560" y="378000"/>
          <a:ext cx="8064720" cy="62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378000"/>
                    <a:ext cx="806472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1952640" y="1397160"/>
          <a:ext cx="524196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2640" y="1397160"/>
                    <a:ext cx="524196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457200" y="608040"/>
            <a:ext cx="579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Cornerstone/RAN ONE Business Developme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Marketing &amp; Sales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e more closely a company’s work force mirrors its customer base, the more effectively it will be able to design and sell its product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9000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Marketing &amp; Sales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nk of yourself as a customer.  Identify with your clientele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5000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Marketing &amp; Sales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The sale is a courtship.  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How good the marriage is depends on how well the seller maintains the relationship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12000">
    <p:random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9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Marketing &amp; Sales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The best – and cheapest – way to keep customers satisfied is to serve them well from the start.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6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Vision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here there is no vision, the people perish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overbs 29:18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9000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Marketing &amp; Sales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Listen to customers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ey’re quite willing to say what kind of service they want and to rate the service they’re getting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11000">
    <p:random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9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Marketing &amp; Sales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urning away a complainer by telling him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7e9ce8"/>
                </a:solidFill>
                <a:latin typeface="Georgia"/>
              </a:rPr>
              <a:t>‘</a:t>
            </a:r>
            <a:r>
              <a:rPr b="0" i="1" lang="en-US" sz="3800" spc="-1" strike="noStrike">
                <a:solidFill>
                  <a:srgbClr val="7e9ce8"/>
                </a:solidFill>
                <a:latin typeface="Georgia"/>
              </a:rPr>
              <a:t>It’s our policy’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enrages him. 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It’s the corporate equivalent of your parents saying,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7e9ce8"/>
                </a:solidFill>
                <a:latin typeface="Georgia"/>
              </a:rPr>
              <a:t>‘</a:t>
            </a:r>
            <a:r>
              <a:rPr b="0" i="1" lang="en-US" sz="3800" spc="-1" strike="noStrike">
                <a:solidFill>
                  <a:srgbClr val="7e9ce8"/>
                </a:solidFill>
                <a:latin typeface="Georgia"/>
              </a:rPr>
              <a:t>Because I said so.’</a:t>
            </a:r>
            <a:endParaRPr b="0" lang="en-US" sz="3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20000">
    <p:random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Marketing &amp; Sales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ustomers tell </a:t>
            </a: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ten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times as many people about bad experiences as good one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5000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5106960" y="1981080"/>
            <a:ext cx="3568680" cy="32133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28600" y="2209680"/>
            <a:ext cx="480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rnerstone can boost your </a:t>
            </a:r>
            <a:r>
              <a:rPr b="1" lang="en-US" sz="2400" spc="-1" strike="noStrike">
                <a:solidFill>
                  <a:srgbClr val="e0042e"/>
                </a:solidFill>
                <a:latin typeface="Georgia"/>
              </a:rPr>
              <a:t> </a:t>
            </a:r>
            <a:r>
              <a:rPr b="0" lang="en-US" sz="3400" spc="-1" strike="noStrike">
                <a:solidFill>
                  <a:srgbClr val="e0042e"/>
                </a:solidFill>
                <a:latin typeface="Georgia"/>
              </a:rPr>
              <a:t>MARKETING &amp; SALES</a:t>
            </a:r>
            <a:r>
              <a:rPr b="1" lang="en-US" sz="2400" spc="-1" strike="noStrike">
                <a:solidFill>
                  <a:srgbClr val="e0042e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roductivity with the world-class customer service training of the RAN ONE networ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random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9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682560" y="378000"/>
          <a:ext cx="8064720" cy="62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378000"/>
                    <a:ext cx="806472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952640" y="1397160"/>
          <a:ext cx="524196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2640" y="1397160"/>
                    <a:ext cx="524196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457200" y="608040"/>
            <a:ext cx="579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Cornerstone/RAN ONE Business Developme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roducts &amp; Services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n selling services people buy what they think they are going to get.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Match up what 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they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think, with the products 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you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deliver and 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add some to exceed expectations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14000">
    <p:random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roducts &amp; Services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If you are looking for a big opportunity, 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seek out a big problem.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9000">
    <p:random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9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1" dur="2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roducts &amp; Services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Anytime you let up, expect a let down.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7000">
    <p:random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00486E-006 L 0.00017 0.2068 E">
                                      <p:cBhvr>
                                        <p:cTn id="422" dur="2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roducts &amp; Services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When companies make their customers happy, they make their employees happy too.  Improvements in customer satisfaction lead directly to higher employee retention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15000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380880" y="5410080"/>
            <a:ext cx="3583080" cy="11001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380880" y="1066680"/>
            <a:ext cx="571500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rnerstone can analyze the profitability of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0042e"/>
                </a:solidFill>
                <a:latin typeface="Georgia"/>
              </a:rPr>
              <a:t>PRODUCTS &amp; SERVIC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o identify your greatest opportunit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Vision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717560"/>
            <a:ext cx="84582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any small businesses are non-profit organizations.  They don’t plan it that way.  It’s just the way things end up.”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all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e Owner of the Australia Bird Compan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(The world’s largest pet bird store in Melbourne Australia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9000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9" name=""/>
          <p:cNvGraphicFramePr/>
          <p:nvPr/>
        </p:nvGraphicFramePr>
        <p:xfrm>
          <a:off x="682560" y="378000"/>
          <a:ext cx="8064720" cy="62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378000"/>
                    <a:ext cx="806472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1952640" y="1397160"/>
          <a:ext cx="524196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2640" y="1397160"/>
                    <a:ext cx="524196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>
            <a:off x="457200" y="608040"/>
            <a:ext cx="579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Cornerstone/RAN ONE Business Developme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579132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When you’re through changing, 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you’re through.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6000">
    <p:random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9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Definition of Insanity . . 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Believing you can keep doing what you’ve been doing and get different result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12000">
    <p:random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2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ive employees information.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They can’t feel in control of circumstances if they lack it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7000">
    <p:random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 not only use all the brains I have, but all I can borrow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oodrow Wilson, 2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President of the United Stat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6000">
    <p:random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3581640" cy="31975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228600" y="9144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0" lang="en-US" sz="3600" spc="-1" strike="noStrike">
                <a:solidFill>
                  <a:srgbClr val="e0042e"/>
                </a:solidFill>
                <a:latin typeface="Georgia"/>
              </a:rPr>
              <a:t>PEOPLE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Development System of Cornerstone Business Solutions can help your team measure 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304920" y="5638680"/>
            <a:ext cx="3047760" cy="93528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random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49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496" dur="3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9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People who never do any more than they get paid for, never get paid for any more than they do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lbert Hubbar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9000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Essentially there are two actions in life.  Performance and excuses.  Make a decision as to which you will accept for yourself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tephen Brow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9000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Excellence is the gradual result of always striving to do better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at Rile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6000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t’s wonderful when the people believe in their leader;  it’s more wonderful when the leader believes in the people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ohn Maxwell, Chief Executive INJO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9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Vision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A challenge so big or audacious that it can seem scary even to the person who conceived it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571680" indent="-571680" algn="just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ome purpose higher than the everyday getting and spending of commerce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370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19000"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People are your only appreciable asset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ohn Maxwell, Chief Executive INJO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8000"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03" dur="2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f you think you can, you can.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nd if you think you can’t, you’re right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ary Kay Ash, CEO of Mary Kay Cosmetic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8000">
    <p:random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6" dur="2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9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4191120" cy="35784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1219320" y="4572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rnerstone can help you make sense of your 0rganiza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0880" y="2133720"/>
            <a:ext cx="38102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he right </a:t>
            </a:r>
            <a:r>
              <a:rPr b="0" lang="en-US" sz="3600" spc="-1" strike="noStrike">
                <a:solidFill>
                  <a:srgbClr val="e0042e"/>
                </a:solidFill>
                <a:latin typeface="Georgia"/>
              </a:rPr>
              <a:t>PEOPLE</a:t>
            </a:r>
            <a:r>
              <a:rPr b="1" lang="en-US" sz="1800" spc="-1" strike="noStrike">
                <a:solidFill>
                  <a:srgbClr val="e0042e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in the right job for the right reason with the right compensation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7238880" y="304920"/>
            <a:ext cx="1524240" cy="149040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9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ny business that pays equal rewards to its 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“goof-offs”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and its 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“eager-beavers”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will, sooner or later, find itself with more 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“goof-offs”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than 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“eager-beavers”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7000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Deliberation is the work of many men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ction, of one alone.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harles DeGaull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6000">
    <p:random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9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People are like rubber bands:  They must be stretched to be effective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4000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What you really need in a service business is people who like people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rank Petro,  Consultant, Booz-Allen Hamilt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7000"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e key to making a high-commitment organization work is mutual trust between top executives and employees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7000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7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e least stressed employees are those who are working flat out on some task that 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they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have selected – something they really love to do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8000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 you don’t now survey employee attitudes,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star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What you find will identify problems before they become crise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12000">
    <p:random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9" dur="2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Vision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You can’t build a reputation on what you’re going to do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enry For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36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x things an executive should never delegat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736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3065400" indent="-495360">
              <a:spcBef>
                <a:spcPts val="451"/>
              </a:spcBef>
              <a:buClr>
                <a:srgbClr val="669999"/>
              </a:buClr>
              <a:buSzPct val="70000"/>
              <a:buFont typeface="Georgia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3065400" indent="-495360">
              <a:spcBef>
                <a:spcPts val="451"/>
              </a:spcBef>
              <a:buClr>
                <a:srgbClr val="669999"/>
              </a:buClr>
              <a:buSzPct val="70000"/>
              <a:buFont typeface="Georgia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electing the team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3065400" indent="-495360">
              <a:spcBef>
                <a:spcPts val="451"/>
              </a:spcBef>
              <a:buClr>
                <a:srgbClr val="669999"/>
              </a:buClr>
              <a:buSzPct val="70000"/>
              <a:buFont typeface="Georgia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Monitoring their effort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3065400" indent="-495360">
              <a:spcBef>
                <a:spcPts val="451"/>
              </a:spcBef>
              <a:buClr>
                <a:srgbClr val="669999"/>
              </a:buClr>
              <a:buSzPct val="70000"/>
              <a:buFont typeface="Georgia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Motivating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3065400" indent="-495360">
              <a:spcBef>
                <a:spcPts val="451"/>
              </a:spcBef>
              <a:buClr>
                <a:srgbClr val="669999"/>
              </a:buClr>
              <a:buSzPct val="70000"/>
              <a:buFont typeface="Georgia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Evaluating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3065400" indent="-495360">
              <a:spcBef>
                <a:spcPts val="451"/>
              </a:spcBef>
              <a:buClr>
                <a:srgbClr val="669999"/>
              </a:buClr>
              <a:buSzPct val="70000"/>
              <a:buFont typeface="Georgia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Rewarding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15000">
    <p:random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8" dur="1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1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2" dur="10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9" dur="10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6" dur="10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3" dur="1000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5302080" y="1751040"/>
            <a:ext cx="2786400" cy="414828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457200" y="1447920"/>
            <a:ext cx="5181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he right </a:t>
            </a:r>
            <a:r>
              <a:rPr b="0" lang="en-US" sz="3600" spc="-1" strike="noStrike">
                <a:solidFill>
                  <a:srgbClr val="e0042e"/>
                </a:solidFill>
                <a:latin typeface="Georgia"/>
              </a:rPr>
              <a:t>PEOPLE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Development System will unlock the potential of your t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3124080"/>
            <a:ext cx="32004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rnerstone has the system you’ve been looking fo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820960" y="4191120"/>
            <a:ext cx="1204920" cy="117792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9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7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"/>
          <p:cNvGraphicFramePr/>
          <p:nvPr/>
        </p:nvGraphicFramePr>
        <p:xfrm>
          <a:off x="682560" y="378000"/>
          <a:ext cx="8064720" cy="62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378000"/>
                    <a:ext cx="806472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1952640" y="1397160"/>
          <a:ext cx="524196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2640" y="1397160"/>
                    <a:ext cx="524196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457200" y="608040"/>
            <a:ext cx="579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Cornerstone/RAN ONE Business Developme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3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Rule One: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 The team observes and monitors the </a:t>
            </a:r>
            <a:r>
              <a:rPr b="0" i="1" lang="en-US" sz="3000" spc="-1" strike="noStrike">
                <a:solidFill>
                  <a:srgbClr val="000000"/>
                </a:solidFill>
                <a:latin typeface="Georgia"/>
              </a:rPr>
              <a:t>leader’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manifestation of culture. 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Rule Two: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 You are </a:t>
            </a:r>
            <a:r>
              <a:rPr b="0" i="1" lang="en-US" sz="3000" spc="-1" strike="noStrike">
                <a:solidFill>
                  <a:srgbClr val="000000"/>
                </a:solidFill>
                <a:latin typeface="Georgia"/>
              </a:rPr>
              <a:t>alway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manifesting culture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9000">
    <p:random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2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7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If you are not managing culture,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it is managing you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3000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eorgia"/>
              </a:rPr>
              <a:t>Innovate or evaporate.</a:t>
            </a:r>
            <a:endParaRPr b="0" lang="en-US" sz="3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6000">
    <p:random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8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Let it be known that risk takers won’t be penalized for new ideas that fail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3000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Make clear to one and all that the future of the enterprise rests on a willingness to experiment, to push in new and untested direction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7000"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Make sure your door is really open.  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EOs can’t recall employees ever abusing an open-door policy:  They don’t walk through it unless they really have to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12000">
    <p:random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9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685800" y="2743200"/>
            <a:ext cx="3733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rporate </a:t>
            </a:r>
            <a:r>
              <a:rPr b="0" lang="en-US" sz="3600" spc="-1" strike="noStrike">
                <a:solidFill>
                  <a:srgbClr val="e0042e"/>
                </a:solidFill>
                <a:latin typeface="Georgia"/>
              </a:rPr>
              <a:t>CULTURE</a:t>
            </a:r>
            <a:r>
              <a:rPr b="1" lang="en-US" sz="1800" spc="-1" strike="noStrike">
                <a:solidFill>
                  <a:srgbClr val="e0042e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is either an asset or li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Which is it for y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457200" y="5410080"/>
            <a:ext cx="1220760" cy="119088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4648320" y="2590920"/>
            <a:ext cx="3857400" cy="367956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random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3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1 E">
                                      <p:cBhvr>
                                        <p:cTn id="697" dur="2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920" y="2133720"/>
            <a:ext cx="4419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rnerstone Business Solutions can help you sharpen your business </a:t>
            </a:r>
            <a:r>
              <a:rPr b="0" lang="en-US" sz="3600" spc="-1" strike="noStrike">
                <a:solidFill>
                  <a:srgbClr val="e0042e"/>
                </a:solidFill>
                <a:latin typeface="Georgia"/>
              </a:rPr>
              <a:t>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85800" y="534960"/>
            <a:ext cx="1371600" cy="13366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800600" y="2971800"/>
            <a:ext cx="3795840" cy="26877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how an unqualified willingness to accept a variety of opinions and integrate them into your management style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8000"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Establish regular times when people know they can come to see you.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Better yet, go to their offices and talk with them.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10000">
    <p:random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ie the financial interests of the higher-ups and lower-downs closer together by making exposure to risk and reward more equitable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10000"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If you don’t treat your own people well, they won’t treat other people well.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erb Kelleher, CEO, Southwest Airlin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5000"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When was the last time you did something for the first time?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5000">
    <p:random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Difficulties mastered are opportunities won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inston Churchil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5000">
    <p:random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6323040" y="4294080"/>
            <a:ext cx="2363760" cy="2306880"/>
          </a:xfrm>
          <a:prstGeom prst="rect">
            <a:avLst/>
          </a:prstGeom>
          <a:ln w="0">
            <a:noFill/>
          </a:ln>
        </p:spPr>
      </p:pic>
      <p:grpSp>
        <p:nvGrpSpPr>
          <p:cNvPr id="394" name=""/>
          <p:cNvGrpSpPr/>
          <p:nvPr/>
        </p:nvGrpSpPr>
        <p:grpSpPr>
          <a:xfrm>
            <a:off x="304920" y="3352680"/>
            <a:ext cx="4572000" cy="3308400"/>
            <a:chOff x="304920" y="3352680"/>
            <a:chExt cx="4572000" cy="3308400"/>
          </a:xfrm>
        </p:grpSpPr>
        <p:pic>
          <p:nvPicPr>
            <p:cNvPr id="395" name="" descr=""/>
            <p:cNvPicPr/>
            <p:nvPr/>
          </p:nvPicPr>
          <p:blipFill>
            <a:blip r:embed="rId2"/>
            <a:stretch/>
          </p:blipFill>
          <p:spPr>
            <a:xfrm>
              <a:off x="762120" y="3352680"/>
              <a:ext cx="3657600" cy="24310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396" name=""/>
            <p:cNvSpPr/>
            <p:nvPr/>
          </p:nvSpPr>
          <p:spPr>
            <a:xfrm>
              <a:off x="304920" y="6018480"/>
              <a:ext cx="457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eorgia"/>
                </a:rPr>
                <a:t>A healthy corporate </a:t>
              </a:r>
              <a:r>
                <a:rPr b="0" lang="en-US" sz="3600" spc="-1" strike="noStrike">
                  <a:solidFill>
                    <a:srgbClr val="e0042e"/>
                  </a:solidFill>
                  <a:latin typeface="Georgia"/>
                </a:rPr>
                <a:t>CULTUR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572000" y="1751040"/>
            <a:ext cx="2820600" cy="2319840"/>
            <a:chOff x="4572000" y="1751040"/>
            <a:chExt cx="2820600" cy="2319840"/>
          </a:xfrm>
        </p:grpSpPr>
        <p:pic>
          <p:nvPicPr>
            <p:cNvPr id="398" name="" descr=""/>
            <p:cNvPicPr/>
            <p:nvPr/>
          </p:nvPicPr>
          <p:blipFill>
            <a:blip r:embed="rId3"/>
            <a:stretch/>
          </p:blipFill>
          <p:spPr>
            <a:xfrm>
              <a:off x="4647960" y="1751040"/>
              <a:ext cx="2668680" cy="158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4572000" y="3428280"/>
              <a:ext cx="282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eorgia"/>
                </a:rPr>
                <a:t>can give rise to healthy profit growth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1000">
    <p:random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05321 L -0.00417 -0.22438 E">
                                      <p:cBhvr>
                                        <p:cTn id="739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One cannot leap a chasm in two jumps.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inston Churchil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6000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Progress always involves risks.  You can’t steal second and keep your foot on first.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rederick Wilcox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6000">
    <p:random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Above all, try something!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ranklin Delano Roosevelt, 3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eorgi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President of the United Stat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6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682560" y="378000"/>
          <a:ext cx="8064720" cy="62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378000"/>
                    <a:ext cx="806472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938240" y="1397160"/>
          <a:ext cx="526752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38240" y="1397160"/>
                    <a:ext cx="526752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457200" y="608040"/>
            <a:ext cx="579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Cornerstone/RAN ONE Business Developme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f something has been done a particular way for 15 to 20 years, it’s a pretty good sign in these changing times that it is being done the wrong way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lliot M. Wa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8000">
    <p:random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Most people are more comfortable with old problems than they are with new solutions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4000">
    <p:random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ere are a lot of ways to become a failure, but never taking a chance is the most successful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5000">
    <p:random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Achievers are not only persistent, they are also hard workers who believe in themselves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imothy L. Griffith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4000">
    <p:random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Not all change leads to improvement, but you cannot improve without changing. 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3000">
    <p:random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Restlessness is discontent – and discontent is the first necessity of progress.  Show me a thoroughly satisfied man – and I will show you a failure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omas Alva Edis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8000">
    <p:random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592360" cy="795240"/>
          </a:xfrm>
          <a:prstGeom prst="rect">
            <a:avLst/>
          </a:prstGeom>
          <a:ln w="0">
            <a:noFill/>
          </a:ln>
        </p:spPr>
      </p:pic>
      <p:grpSp>
        <p:nvGrpSpPr>
          <p:cNvPr id="419" name=""/>
          <p:cNvGrpSpPr/>
          <p:nvPr/>
        </p:nvGrpSpPr>
        <p:grpSpPr>
          <a:xfrm>
            <a:off x="1066680" y="1238400"/>
            <a:ext cx="6705720" cy="1652760"/>
            <a:chOff x="1066680" y="1238400"/>
            <a:chExt cx="6705720" cy="1652760"/>
          </a:xfrm>
        </p:grpSpPr>
        <p:sp>
          <p:nvSpPr>
            <p:cNvPr id="420" name=""/>
            <p:cNvSpPr/>
            <p:nvPr/>
          </p:nvSpPr>
          <p:spPr>
            <a:xfrm>
              <a:off x="5105520" y="1425600"/>
              <a:ext cx="26668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eorgia"/>
                </a:rPr>
                <a:t>The right corporate </a:t>
              </a:r>
              <a:r>
                <a:rPr b="1" lang="en-US" sz="3600" spc="-1" strike="noStrike">
                  <a:solidFill>
                    <a:srgbClr val="e0042e"/>
                  </a:solidFill>
                  <a:latin typeface="Georgia"/>
                </a:rPr>
                <a:t>CULTURE</a:t>
              </a:r>
              <a:r>
                <a:rPr b="0" lang="en-US" sz="1800" spc="-1" strike="noStrike">
                  <a:solidFill>
                    <a:srgbClr val="000000"/>
                  </a:solidFill>
                  <a:latin typeface="Georgia"/>
                </a:rPr>
                <a:t> will get your team pulling togethe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1" name="" descr=""/>
            <p:cNvPicPr/>
            <p:nvPr/>
          </p:nvPicPr>
          <p:blipFill>
            <a:blip r:embed="rId2"/>
            <a:stretch/>
          </p:blipFill>
          <p:spPr>
            <a:xfrm>
              <a:off x="1066680" y="1238400"/>
              <a:ext cx="3353040" cy="1290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14000">
    <p:random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9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 0.10317 L 0.15 0.43627 E">
                                      <p:cBhvr>
                                        <p:cTn id="763" dur="2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682560" y="378000"/>
          <a:ext cx="8064720" cy="62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378000"/>
                    <a:ext cx="806472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1952640" y="1397160"/>
          <a:ext cx="524196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2640" y="1397160"/>
                    <a:ext cx="524196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"/>
          <p:cNvSpPr/>
          <p:nvPr/>
        </p:nvSpPr>
        <p:spPr>
          <a:xfrm>
            <a:off x="457200" y="608040"/>
            <a:ext cx="579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Cornerstone/RAN ONE Business Developme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/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3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3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ystems &amp; Processes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We have to undo a 100-year-old concept and convince our managers that their role is not to control people and ‘stay on top’ of things, but rather to guide, energize and excite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Jack Welch, Chairman and CEO of General Electric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9000">
    <p:random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ystems and Process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We first form habits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Then habits form us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6000">
    <p:random/>
  </p:transition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9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2T22:19:10Z</dcterms:created>
  <dc:creator>CMH</dc:creator>
  <dc:description/>
  <dc:language>en-US</dc:language>
  <cp:lastModifiedBy>Chris Hunter</cp:lastModifiedBy>
  <dcterms:modified xsi:type="dcterms:W3CDTF">2002-11-01T23:30:23Z</dcterms:modified>
  <cp:revision>181</cp:revision>
  <dc:subject/>
  <dc:title>Slide 1</dc:title>
</cp:coreProperties>
</file>