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5.gif" ContentType="image/gif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C47-E292-4356-B80C-70D90F93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413-98D8-4FC9-A915-EDBA4216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59B-CF38-4A69-AD3B-5DC4E1A4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C0C-3AB9-47D4-9881-CF9878F2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C7D-FA16-4318-9858-80AD412A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A03-4DE4-4CE2-94A6-9512C53C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8902-4CD5-45BC-A55D-966572A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1458-6965-409D-96BD-8DCC433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74B0-D289-4E30-AC63-7A9632DC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844-6834-4AA0-86DA-D8E88E8E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957-128A-4ADC-BBB5-390230A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E39-BAC2-467A-A7E2-A4190E8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BC3-39CC-4789-A045-0B42F64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A895-A871-40B7-9A86-180BBE5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924-345A-4E97-85EF-AACA1E41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8922-0068-4DA2-8E5E-BEE21454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A83-1129-46B6-8DC8-A8EFE43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AD4-420B-42EF-AAA9-0A2E9F25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E8E-4365-4978-80CA-5B1A5C06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4A8-027F-4D2D-98AD-8BDB875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957-A28C-4DC9-A6C2-E7C650A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A9B-3287-4C92-AAB1-8DFB89A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082-EF9C-4CE6-B1DB-9A134BE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00D-09F3-4AA3-BE51-FDAE6C1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ztecchamber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4A5-7158-4737-BAEE-BB4BE6BCC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1752840" cy="5364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167-7C0C-432C-A128-5DF9DC4C74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ztecchamber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chris@cornerstoneresults.com" TargetMode="External"/><Relationship Id="rId3" Type="http://schemas.openxmlformats.org/officeDocument/2006/relationships/hyperlink" Target="http://www.cornerstoneresults.com/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Filing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iterally &amp; Virtuall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 Chamber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1752480" cy="53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537000" cy="273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85800" y="5029200"/>
            <a:ext cx="7591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Filing Software at 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00600" y="2743200"/>
            <a:ext cx="30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ecre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mead Viewab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55308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rinter &amp; End Resu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rtu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s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cabi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documents can and should be ind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 Properties fiel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nsistent and documented sche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1400" y="1828800"/>
            <a:ext cx="281304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net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avorites and Folder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o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3021120"/>
            <a:ext cx="3504960" cy="240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ganize &amp; Sort IE 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Add Favorite box"/>
          <p:cNvPicPr/>
          <p:nvPr/>
        </p:nvPicPr>
        <p:blipFill>
          <a:blip r:embed="rId1"/>
          <a:stretch/>
        </p:blipFill>
        <p:spPr>
          <a:xfrm>
            <a:off x="1143000" y="1905120"/>
            <a:ext cx="2743200" cy="192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Favorites menu"/>
          <p:cNvPicPr/>
          <p:nvPr/>
        </p:nvPicPr>
        <p:blipFill>
          <a:blip r:embed="rId2"/>
          <a:stretch/>
        </p:blipFill>
        <p:spPr>
          <a:xfrm>
            <a:off x="4572000" y="4137120"/>
            <a:ext cx="2505240" cy="237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43400" y="2057400"/>
            <a:ext cx="3962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phabetize Your Favo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r list of Favorites gets unruly, you can put it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-click anywhere on the Favorites menu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enu that opens, click Sort by Name. See step 2 in the image below. Internet Explorer lists folders first (if you have them), and then individual Web pages in the main 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have to in order to meet complianc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can make money by acces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someone else will use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up and don’t FT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ail To Impl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 Further Inform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11600" cy="281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2438280"/>
            <a:ext cx="3886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stone Busines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5) 325-4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hris@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Bother Fi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811600" cy="2811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Bother Filing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ing is done for two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liance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business records that assist in understanding the financial picture of the business for purpos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the CPA and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ing the status of current business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ing to Make Mone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t More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590920" cy="178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4114800"/>
            <a:ext cx="571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Products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Your Filing Organization Scheme on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Yourself a Cabinet &amp;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eviate from the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the “Radar O’Reilly and Max Klinger tr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ould you like to find thing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logical and scalabl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avoid the “Radar O’Reilly and Max Klinger tr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75360" y="3429000"/>
            <a:ext cx="19814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242748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5181480"/>
            <a:ext cx="845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binet at Cornerstone Business Solutio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14520" cy="441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5029200"/>
            <a:ext cx="4410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System at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7:50:31Z</dcterms:created>
  <dc:creator>Chris Hunter</dc:creator>
  <dc:description>Created for seminar on January 29 2004</dc:description>
  <dc:language>en-US</dc:language>
  <cp:lastModifiedBy>Chris Hunter</cp:lastModifiedBy>
  <dcterms:modified xsi:type="dcterms:W3CDTF">2004-10-17T00:56:37Z</dcterms:modified>
  <cp:revision>15</cp:revision>
  <dc:subject>Cornerstone Presentations</dc:subject>
  <dc:title>Filing  Literally &amp; Virtually</dc:title>
</cp:coreProperties>
</file>