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2EF-1AF3-4361-AB65-E9CAC7F4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85D-C873-404A-A6C8-B4AF2A0D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43B-59FD-4A64-8A00-F38525C9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7D4-5169-43B4-BEEE-C58D3FA0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6EAF-2707-488E-9E55-9C5DD938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F476-DC73-4476-9F12-A8492D1E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47A7-8311-487A-B817-6BC275D7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4AC7-4035-413E-B1CB-C5CBAFE6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EF81-E81E-4AF9-947F-76940DEB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C97D-13F2-4CFE-BAF5-13A5929D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5B4C-4613-4127-AA99-20A0F1C3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B30-BDE0-4FCE-994E-66D7912C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E117-2462-4E60-A4D2-692D7F35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B00F-20EA-4F06-B333-27A7456F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6778-FCEC-468B-B940-D7B60692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696D-B665-4B9F-9EA8-5E4DF56B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FAF8-584B-4771-A1CC-E1B133C1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0C2-6DCA-4DF4-B068-6C6E3E55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D25-394D-4CC8-9A41-9B9314E5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D13E-C7CA-4885-B537-E6A51C09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BEF-E733-4BB5-AEAE-8C09E160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B8E-3A75-4D15-8F57-B343E270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39E-D2B1-4AB4-AC85-87202AF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947A-0979-4F38-9282-92A0E746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6862-1D05-45A4-B981-C511A43FD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934320" y="6172200"/>
            <a:ext cx="15332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6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08E4-8964-4D45-92CF-1D719A0F8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alliancestrategy.com/" TargetMode="External"/><Relationship Id="rId3" Type="http://schemas.openxmlformats.org/officeDocument/2006/relationships/hyperlink" Target="http://www.alliancestrategy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liancestrategy.com/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alliancestrategy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trategic Allianc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ys to Think About Them, Ways to Work T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172200" y="5743440"/>
            <a:ext cx="2676600" cy="8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vkf0k0f_[1]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133360" cy="20113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3200400" y="1523880"/>
            <a:ext cx="311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ibliograph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36232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izing a New Strategic Alli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eter K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2"/>
          </p:cNvPr>
          <p:cNvSpPr/>
          <p:nvPr/>
        </p:nvSpPr>
        <p:spPr>
          <a:xfrm>
            <a:off x="2667600" y="3660840"/>
            <a:ext cx="37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5d093"/>
                </a:solidFill>
                <a:uFillTx/>
                <a:latin typeface="Arial"/>
                <a:hlinkClick r:id="rId3"/>
              </a:rPr>
              <a:t>www.alliancestrateg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efinition of Alli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34600" y="2101680"/>
            <a:ext cx="7903800" cy="1557000"/>
            <a:chOff x="534600" y="2101680"/>
            <a:chExt cx="7903800" cy="1557000"/>
          </a:xfrm>
        </p:grpSpPr>
        <p:sp>
          <p:nvSpPr>
            <p:cNvPr id="331" name=""/>
            <p:cNvSpPr/>
            <p:nvPr/>
          </p:nvSpPr>
          <p:spPr>
            <a:xfrm>
              <a:off x="534600" y="3016080"/>
              <a:ext cx="171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b374"/>
                  </a:solidFill>
                  <a:latin typeface="Arial"/>
                </a:rPr>
                <a:t>Arm’s</a:t>
              </a: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ccb374"/>
                  </a:solidFill>
                  <a:latin typeface="Arial"/>
                </a:rPr>
                <a:t>Lengt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b374"/>
                  </a:solidFill>
                  <a:latin typeface="Arial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11000" y="3016080"/>
              <a:ext cx="142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erger 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cquis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05120" y="2101680"/>
              <a:ext cx="5257800" cy="990720"/>
            </a:xfrm>
            <a:prstGeom prst="leftRightArrow">
              <a:avLst>
                <a:gd name="adj1" fmla="val 50000"/>
                <a:gd name="adj2" fmla="val 10564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29000" y="30160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858b"/>
                  </a:solidFill>
                  <a:latin typeface="Arial"/>
                </a:rPr>
                <a:t>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600200" y="3794040"/>
            <a:ext cx="6400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value by </a:t>
            </a:r>
            <a:r>
              <a:rPr b="1" lang="en-US" sz="2000" spc="-1" strike="noStrike">
                <a:solidFill>
                  <a:srgbClr val="35858b"/>
                </a:solidFill>
                <a:latin typeface="Arial"/>
              </a:rPr>
              <a:t>combining capabilitie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000" spc="-1" strike="noStrike">
                <a:solidFill>
                  <a:srgbClr val="35858b"/>
                </a:solidFill>
                <a:latin typeface="Arial"/>
              </a:rPr>
              <a:t>separate firm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US" sz="2000" spc="-1" strike="noStrike">
                <a:solidFill>
                  <a:srgbClr val="35858b"/>
                </a:solidFill>
                <a:latin typeface="Arial"/>
              </a:rPr>
              <a:t>share control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 </a:t>
            </a:r>
            <a:r>
              <a:rPr b="1" lang="en-US" sz="2000" spc="-1" strike="noStrike">
                <a:solidFill>
                  <a:srgbClr val="35858b"/>
                </a:solidFill>
                <a:latin typeface="Arial"/>
              </a:rPr>
              <a:t>“open-ended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omplete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6172200"/>
            <a:ext cx="38102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B. Gomes-Casseres 20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e5d093"/>
                </a:solidFill>
                <a:uFillTx/>
                <a:latin typeface="Arial"/>
                <a:hlinkClick r:id="rId1"/>
              </a:rPr>
              <a:t>www.alliancesstrategy.c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Alliance = A Way to Manage “Incompleteness”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1905120"/>
            <a:ext cx="2514600" cy="685800"/>
          </a:xfrm>
          <a:prstGeom prst="rect">
            <a:avLst/>
          </a:prstGeom>
          <a:solidFill>
            <a:srgbClr val="ffffcc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mplete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f_hhlz1f[1]" descr=""/>
          <p:cNvPicPr/>
          <p:nvPr/>
        </p:nvPicPr>
        <p:blipFill>
          <a:blip r:embed="rId1"/>
          <a:stretch/>
        </p:blipFill>
        <p:spPr>
          <a:xfrm>
            <a:off x="4429080" y="3429000"/>
            <a:ext cx="362160" cy="4906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657600" y="46483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ffcc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5029200"/>
            <a:ext cx="1752480" cy="533520"/>
          </a:xfrm>
          <a:prstGeom prst="roundRect">
            <a:avLst>
              <a:gd name="adj" fmla="val 16667"/>
            </a:avLst>
          </a:prstGeom>
          <a:solidFill>
            <a:srgbClr val="ffcc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91120" y="5410080"/>
            <a:ext cx="1752480" cy="533520"/>
          </a:xfrm>
          <a:prstGeom prst="roundRect">
            <a:avLst>
              <a:gd name="adj" fmla="val 16667"/>
            </a:avLst>
          </a:prstGeom>
          <a:solidFill>
            <a:srgbClr val="ffcc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5791320"/>
            <a:ext cx="1752840" cy="533160"/>
          </a:xfrm>
          <a:prstGeom prst="roundRect">
            <a:avLst>
              <a:gd name="adj" fmla="val 16667"/>
            </a:avLst>
          </a:prstGeom>
          <a:solidFill>
            <a:srgbClr val="ffcc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64640" y="3352680"/>
            <a:ext cx="7673040" cy="642600"/>
            <a:chOff x="764640" y="3352680"/>
            <a:chExt cx="7673040" cy="642600"/>
          </a:xfrm>
        </p:grpSpPr>
        <p:sp>
          <p:nvSpPr>
            <p:cNvPr id="345" name=""/>
            <p:cNvSpPr/>
            <p:nvPr/>
          </p:nvSpPr>
          <p:spPr>
            <a:xfrm>
              <a:off x="2819520" y="3581280"/>
              <a:ext cx="1523880" cy="228600"/>
            </a:xfrm>
            <a:prstGeom prst="rightArrow">
              <a:avLst>
                <a:gd name="adj1" fmla="val 50000"/>
                <a:gd name="adj2" fmla="val 1666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0800000">
              <a:off x="4876560" y="3580920"/>
              <a:ext cx="1523880" cy="228600"/>
            </a:xfrm>
            <a:prstGeom prst="rightArrow">
              <a:avLst>
                <a:gd name="adj1" fmla="val 50000"/>
                <a:gd name="adj2" fmla="val 1666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4640" y="3352680"/>
              <a:ext cx="189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foreseen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ternal Ev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54520" y="3352680"/>
              <a:ext cx="188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foresee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Internal Ev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495680" y="2742840"/>
            <a:ext cx="1427400" cy="609480"/>
            <a:chOff x="4495680" y="2742840"/>
            <a:chExt cx="1427400" cy="609480"/>
          </a:xfrm>
        </p:grpSpPr>
        <p:sp>
          <p:nvSpPr>
            <p:cNvPr id="350" name=""/>
            <p:cNvSpPr/>
            <p:nvPr/>
          </p:nvSpPr>
          <p:spPr>
            <a:xfrm flipV="1">
              <a:off x="4495680" y="2742480"/>
              <a:ext cx="228600" cy="609480"/>
            </a:xfrm>
            <a:prstGeom prst="upArrow">
              <a:avLst>
                <a:gd name="adj1" fmla="val 50000"/>
                <a:gd name="adj2" fmla="val 666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02040" y="28195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ds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495680" y="3962160"/>
            <a:ext cx="1427400" cy="609480"/>
            <a:chOff x="4495680" y="3962160"/>
            <a:chExt cx="1427400" cy="609480"/>
          </a:xfrm>
        </p:grpSpPr>
        <p:sp>
          <p:nvSpPr>
            <p:cNvPr id="353" name=""/>
            <p:cNvSpPr/>
            <p:nvPr/>
          </p:nvSpPr>
          <p:spPr>
            <a:xfrm flipV="1">
              <a:off x="4495680" y="3961800"/>
              <a:ext cx="228600" cy="609480"/>
            </a:xfrm>
            <a:prstGeom prst="upArrow">
              <a:avLst>
                <a:gd name="adj1" fmla="val 50000"/>
                <a:gd name="adj2" fmla="val 666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02040" y="403848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ds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380880" y="6172200"/>
            <a:ext cx="38102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B. Gomes-Casseres 20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e5d093"/>
                </a:solidFill>
                <a:uFillTx/>
                <a:latin typeface="Arial"/>
                <a:hlinkClick r:id="rId2"/>
              </a:rPr>
              <a:t>www.alliancesstrategy.c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24852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makes them and 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Getting it Righ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67436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858b"/>
                </a:solidFill>
                <a:latin typeface="Tahoma"/>
              </a:rPr>
              <a:t>Clarify 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we ne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lo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n alliance the best way to get what we need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858b"/>
                </a:solidFill>
                <a:latin typeface="Tahoma"/>
              </a:rPr>
              <a:t>Design the alli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type of alliance should we creat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our role b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858b"/>
                </a:solidFill>
                <a:latin typeface="Tahoma"/>
              </a:rPr>
              <a:t>Manage after the Deal is d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effectively manage the allian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build tru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ossible Objectiv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enter new marke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reate new technology and set new industry standa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ape consolid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clear on motives and make sure they are positive all a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ositive Motiv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harness the partner’s energy and knowled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set an industry standard by involving partn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learn someth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gain economies of sca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reduce ri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gain sp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esigning the Alli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28440" y="289548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b374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151760" y="2895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05120" y="1981080"/>
            <a:ext cx="5257800" cy="990720"/>
          </a:xfrm>
          <a:prstGeom prst="leftRightArrow">
            <a:avLst>
              <a:gd name="adj1" fmla="val 50000"/>
              <a:gd name="adj2" fmla="val 10564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29000" y="2895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858b"/>
                </a:solidFill>
                <a:latin typeface="Arial"/>
              </a:rPr>
              <a:t>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3352680"/>
            <a:ext cx="2286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cense agre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d marketing deals (e.g. airline allian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77120" y="3643200"/>
            <a:ext cx="2286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ss own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int ven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d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09480" y="4800600"/>
            <a:ext cx="7543800" cy="1015920"/>
            <a:chOff x="609480" y="4800600"/>
            <a:chExt cx="7543800" cy="1015920"/>
          </a:xfrm>
        </p:grpSpPr>
        <p:sp>
          <p:nvSpPr>
            <p:cNvPr id="371" name=""/>
            <p:cNvSpPr/>
            <p:nvPr/>
          </p:nvSpPr>
          <p:spPr>
            <a:xfrm>
              <a:off x="609480" y="4800600"/>
              <a:ext cx="2590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b374"/>
                  </a:solidFill>
                  <a:latin typeface="Arial"/>
                </a:rPr>
                <a:t>Shallow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b374"/>
                  </a:solidFill>
                  <a:latin typeface="Arial"/>
                </a:rPr>
                <a:t>Traveling L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62720" y="4800600"/>
              <a:ext cx="2590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eep Allian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ommi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Key Ques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you formally assessed the aims and benefits of the strategic allianc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es the alliance fit with your overall commercial strategy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needs to be informed of the alliance and whe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you sought the advice of professional adviso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Key Ques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you taken time to understand the target and the commercial implication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what extent should the alliance be integrated into your busines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will lead thi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you have a fully costed and resourced plan for managing the alliance?  What are the targets and success criteria for the allian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4:07:44Z</dcterms:created>
  <dc:creator>Chris Hunter</dc:creator>
  <dc:description/>
  <dc:language>en-US</dc:language>
  <cp:lastModifiedBy>Chris Hunter</cp:lastModifiedBy>
  <dcterms:modified xsi:type="dcterms:W3CDTF">2004-10-17T02:49:41Z</dcterms:modified>
  <cp:revision>25</cp:revision>
  <dc:subject/>
  <dc:title>Strategic Alliances - Ways to Think About Them, Ways to Work Them</dc:title>
</cp:coreProperties>
</file>